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92731"/>
        <c:axId val="74902046"/>
      </c:barChart>
      <c:catAx>
        <c:axId val="64392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2046"/>
        <c:crosses val="autoZero"/>
        <c:auto val="1"/>
        <c:lblAlgn val="ctr"/>
        <c:lblOffset val="100"/>
        <c:noMultiLvlLbl val="0"/>
      </c:catAx>
      <c:valAx>
        <c:axId val="74902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92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334-5C9D-4204-BDB1-B243B5F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0D8-D975-43F5-8321-2F41CBC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5E0-C3EE-42E1-8872-EE31AA74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C60-7D8E-4A3C-AD6F-00DD1430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3CC-BB9A-4063-AFA4-2BD85E4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81C-BD3A-4B60-B5A8-15CE00C8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DB0-3D3F-44AD-BDF5-49453C8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FFF-2113-443F-AFC9-148DDFD1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553-3802-4C98-850D-52E5531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264-DFCF-4340-A2F0-FEF9F97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EC7-2370-4685-A718-CC54485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209-7395-4BD8-9BBE-29E3676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37B49-9C76-4398-AD91-45F7D54073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