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19792"/>
        <c:axId val="95086290"/>
      </c:barChart>
      <c:catAx>
        <c:axId val="27219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6290"/>
        <c:crosses val="autoZero"/>
        <c:auto val="1"/>
        <c:lblAlgn val="ctr"/>
        <c:lblOffset val="100"/>
        <c:noMultiLvlLbl val="0"/>
      </c:catAx>
      <c:valAx>
        <c:axId val="95086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9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92B-DF8F-4628-B700-54A9B414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E1C-52DB-4F4D-A186-ED0D6AF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FFA-BBF8-43C7-B8EF-9AFCB277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5B5-779C-43C1-B5E8-D8D15EE6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873-1D7D-4BB2-9B11-C74A6828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929-F309-4544-881E-900907D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684-BEC4-406C-B89E-63933F8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637-22E9-4252-921F-CE29835F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9A6-1917-45B4-A6D1-60A93A1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047-77AE-40CF-B2D4-DE8208E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A91-7CAF-4911-BFBF-6495BB1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E5C-F450-4595-A30F-A6A7F5C8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449A-AF85-418F-8919-26FB401E22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