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353B-E978-4B3D-8FBE-F4B4F3536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B515-A442-404B-8088-702A4187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E5C12-CF4C-4CE6-86DC-8E2BDFE9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C1B121-50B6-46BD-8C36-FA0DB88F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8859F-8561-407E-B145-89DB26BF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3C62F-BA10-4C5B-B013-CF1887F5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1AE6AF-E5EF-4B3F-85C9-3272E7DA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A35C0-A921-4EBD-B187-DD55E531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F5B3F-8282-4A0E-AE2E-F4BDCFC5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09A72-0408-4B14-AC94-215A48837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08C25-91C1-4B31-883A-1E3025006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C4F839-0D44-43BE-9008-2BC0545AB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B540-FD7F-4D82-BC32-EAD3C6797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6C4E17-ABFF-4F0A-A6D3-5F20FAD9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71FCBE-7AED-4ADD-9088-72DA52DA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B95CD8-1E3C-42EA-AF05-98D84895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F8AC46-5C8B-4E82-8662-C2E2BD03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156FF8-DBE2-429D-B327-6389CC9D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28AE88-D7B7-437E-948D-DC2114D7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202165-97B4-4314-84DF-AA4EDD53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9BEC73-D355-4DC6-9D11-2AF84528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15478C-DC06-47F2-AC10-19D0A89A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4E8C41-A653-48DD-A699-345FC43C3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2466-B733-44A3-A22C-21F92E988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A7E370-7810-498B-8A46-C9203532B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DCA51-7C0B-431C-8D7F-92253DBE4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B65B7-6E11-4D15-A72F-C98ACA37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31A3E-EDB8-405C-AAA1-D04F5D8D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6D6D3-497F-4CC4-B366-E0E990D9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C7041-DBD7-41F0-8D18-90A0076D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8ABD7-F275-4BB2-9967-F01F02B9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7D6FC-28AF-4386-BBAD-04B5AC0D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420CF-07D5-4EFC-BD60-A29010A0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E29C3-3B32-45F4-965C-CE8CF5DD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EF92-91D1-4A8D-A353-2B461F6C1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389F8-A737-48E5-B7EF-FE36B302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AB5BD-807A-4C22-8242-A95C2002A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623EE-F27C-48AF-9071-5C9E0E022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D9255D-FF1B-4ADC-B4D0-BB83AFD15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0A236-3017-4E8F-BB4D-32E05CCC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045A3-2312-4F49-91F0-8BFA0AEB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FAE453-2318-4841-A162-993B2AF2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F91C71-5C0B-4593-AF54-99B82C38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F1F349-D8FD-4B31-A2B1-1748BEDA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58DE10-51CC-4CF3-921D-E71CD4B8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2493-A9C6-4671-A2C3-F7E67723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389A3-E833-4044-B841-263143D6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4EA910-7F8C-4E05-9686-D56AF489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CF33C0-0B98-4A14-A3C3-9EE0A1B7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5AE7E5-40CD-4C4F-AB92-113EEF36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A2586-EDB8-4F23-A4C0-5BD9264FA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96B7-3C9B-4E25-9C8B-8EFFF743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E5FF-CDF2-4EE9-B62F-5F72EF19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5E7E-604A-4393-BDF2-F0CB90DB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256A-4908-4997-8198-530E2E20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59B5-4590-4802-9DD6-B515064D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7CDD-6BB1-4012-8FBA-A7EE86E4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7412-005C-48EC-8D88-F78E803E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FC5B-209A-46F9-8B4A-9A361C87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045B-B0CE-4C20-BECD-780359A3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AEE7-2A71-4EBB-92A2-4036B4DC7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3547-A313-4826-A3E4-592F44EEC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23FC9-0C7E-48E5-9E74-54B6EE1EE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751C3-E368-4FC0-A56D-792AB441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5D1C5-4E45-4603-8717-BEA11464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2E53E-3D78-48CD-84FD-A4C3288A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13380-ADA0-4205-9E90-ADD7556C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C44C-7FFD-4794-9E94-03AD7F86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2933A-1020-40DC-813B-DA3736B3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C7B0A-7141-4A34-92E1-F6C7D4D2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12C5F-A32B-4223-B607-CF77975D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F122F-50AA-420B-81E6-918AA57D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7C68B-8B3F-4650-9AFE-3ACD9507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92701-E01C-44A4-9043-027B9A96E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02B20-CDFC-4490-84B0-B7700F53A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18B84-9D32-4A63-82DC-EA1D40275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7641B-F2CF-4E2E-B48B-411F1F32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94EE5-6C39-4B26-84B8-58CAEC27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145D-3032-4503-800E-7D17FB87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C20C7-DF31-40A2-8509-64D9DFDD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E65AD-602A-47AD-B0D3-7B5E652C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3AAAC-D8EE-4E61-A777-4511A03C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77BC9-0D4E-4D6A-9FCC-858469D6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11D09-0FC2-4BC8-934D-4579DD5D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B238E-4373-4FF5-915A-8A1F7408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9099A-2995-4D0E-89F0-2B55E061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7454A-7D16-4180-B978-1F6F1A5D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84D6A-63F4-402F-8DD8-C9D817C2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44769C-E228-4484-8E73-A7957036B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F5DE-56DC-4146-95C0-07DCBF5D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4C2CCF-8A05-46E8-9EC5-774758A6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6B4C87-DF6D-49D4-8680-BC135D07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AD621F-5D84-4AD5-97C7-EB3C4C81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E0FD3D-143C-4D84-AE60-9DD02904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90E605-AEA1-448C-9861-80E0F2B7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F6A606-BAC2-40B4-98A9-86A81CAE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25A12B-5EC5-48FF-BBC6-B868D2CA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398362-5160-482C-918B-5D0FF9E2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D9EB70-035E-46A8-8599-F208273D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F28717-1E28-463D-BE5B-F1AFBF093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70C3-5CFF-4806-8081-5AFD5F31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E1E6DD-F110-4606-98DA-A4C55C0BD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F660B-DD05-4C72-86F7-DBBDAA9BA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6EDF7-C576-44FE-961F-F6C3E4C8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B40BA-98DE-43B8-9126-E9068800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EF266-86FF-48D1-92D6-7CA56585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05CDA-E63E-44AB-B74C-CAEAF579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38520-2E1F-4619-AC15-86B8474D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55C59-4C08-4112-99D3-F55B2456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CAA9F-8F6F-4071-9E25-3BD27BF5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DBBE0-784B-4BF6-A30C-FAB7C72E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3218-F70D-4306-8D4F-1B6D7C95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D2926-30F1-4D19-893F-4742CA88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B9F77-6771-4F4A-BCC2-AC938F9E1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B8CF7-21E1-425B-A87F-652D90BD7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CF4A3-49DF-4D0A-BCEA-24AD5DBB1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E244B-76A0-45B4-9C51-1FA39178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061C2-DFDD-49F8-939B-0B570E53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32D18-75AF-4CEF-AABE-2150E37F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59357-610E-4F5F-8228-8E5BAB98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48E5D-9155-41CD-9936-9EE03CB0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53729-94E8-43CF-A16C-F1D2369A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6BB7-1B4E-4077-BE2E-E9D55520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C78F0-0B4A-448F-9719-62B1D19F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0CE0D-E280-4A0A-A075-499B85D7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07302-4565-4BD3-ADCA-50A350F2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6FC54-D127-431B-9907-99CA9A4F2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3B06F-37A1-4FB5-A8CA-B00389FF8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5DDC8-A2D3-4B67-A113-943E24B94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E8071-41C9-4B50-88B5-CBC6CAE1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32BF4-CFC1-489D-B153-3E6C136F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2D025-5A27-4E0F-BE5A-148949AF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3653E-F44A-474B-B743-12FA9A5F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CA56-370F-4B0D-B6DF-7135B21C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B68BB-8725-4AE3-97D1-7DCE75D0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36389-2151-4AC9-A329-E8B69D66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638F3-2D48-4F81-98AC-0CE77013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555BC-2AA4-4DDA-95EC-A775F5E4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EB2AD-B2C7-47A4-8497-93FC0F2C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A4941-C704-403D-8C6B-383FDB33A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B5BA0-5DD7-4AA3-8E77-63A8ABCD8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CEC869-6F1D-4803-A3AE-17BB4320D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6C20A-87F1-40E9-B281-CDC0E865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9C244-88D5-410F-A329-4CFDF453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83D0-967F-4138-890C-751775A81C8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A34B-DB9D-44A3-8DD8-3BD9DA20F4D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EB32-338D-4010-96BF-DECD9A5D1A8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4DEC-6BE2-48AF-94C5-0DAF50429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676C-2632-4DE9-B88B-51F80030E492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18E8-F010-4B66-B0B1-41782F17957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E4B6-B5FC-42F6-AAE7-F77435FF83A6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9706-96EA-4C54-92B9-8896D5D8890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F471-1025-4737-8EC5-DC77333CBC5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B16D-0901-4CE4-9CC9-B5AA86C40DE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77F3-9A56-4669-8FF6-D5E28CD6343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1C48-9694-4296-A015-A4BD7FD62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5667-8577-428D-B918-42C92CF6F89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1070-E451-439A-AEEF-FC9191C1C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22A1-4E48-4757-85F3-F84E4FEF530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2EE4-71B2-4CB2-8960-A3089237D52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5C2C-C84D-4B3B-B833-9EFC881D8FC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55EA-9E2B-4034-B1D1-89425C393EB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290E-9F00-4188-98AD-05E53F67A20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A7BB-2388-408C-8355-FED19554A7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1A42-275A-450E-9110-0C389B4917F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665B-E066-4DE6-9F1D-BC3D2C06BCE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E50E-E7F9-49EC-9061-D364B8604EE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5F6C-33EC-40BA-8BA6-E5D715DFD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3CDA-A559-4963-96EA-6C6B77A3223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2B8DCC-BD94-476B-AAE1-8D7258A0E48E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3F8CA-6E3D-442F-94FC-558B30C6485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EB455362-AA0F-41CB-A0D4-BF22963ED00D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7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121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5B03B-773F-4FAA-971F-4628AAAF3E92}" type="slidenum">
              <a:t>3</a:t>
            </a:fld>
          </a:p>
        </p:txBody>
      </p:sp>
    </p:spTree>
  </p:cSld>
  <p:transition>
    <p:comb dir="horz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0CE902-2B59-461A-816D-5ECB0D7C330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02A0DD58-1CCE-43AE-82BE-76AAE62D01ED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8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0C65E-7486-461D-B138-B6FE75C25C9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9A28A3A8-EF2F-4B30-AE46-21A98210CA7A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0"/>
                            </p:stCondLst>
                            <p:childTnLst>
                              <p:par>
                                <p:cTn id="2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6000"/>
                            </p:stCondLst>
                            <p:childTnLst>
                              <p:par>
                                <p:cTn id="2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7000"/>
                            </p:stCondLst>
                            <p:childTnLst>
                              <p:par>
                                <p:cTn id="3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8000"/>
                            </p:stCondLst>
                            <p:childTnLst>
                              <p:par>
                                <p:cTn id="3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9000"/>
                            </p:stCondLst>
                            <p:childTnLst>
                              <p:par>
                                <p:cTn id="3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2D8C1-E79C-4FE6-B22F-C16BC6DFF21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90E9CC64-0547-49E8-9B03-744385DB63E9}" type="datetime1">
              <a:rPr lang="en-US"/>
              <a:t>07/31/26</a:t>
            </a:fld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