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63680"/>
        <c:axId val="21415615"/>
      </c:barChart>
      <c:catAx>
        <c:axId val="16363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15615"/>
        <c:crosses val="autoZero"/>
        <c:auto val="1"/>
        <c:lblAlgn val="ctr"/>
        <c:lblOffset val="100"/>
        <c:noMultiLvlLbl val="0"/>
      </c:catAx>
      <c:valAx>
        <c:axId val="21415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63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42B-9841-4FB7-ABBF-0E853FB0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97F-889E-4F4A-BC16-837F6F5E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A20-7785-4680-A9CC-519F21BE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EEA-F5B5-469B-9952-88E9D82D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583-ED87-496D-99FE-1A7478C3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4E6-5F8A-4EA4-961F-023A3249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E45-D34A-4B8E-A1C2-9DCA40D5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D0E-D021-46D7-8616-536D542E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080-D241-4D05-8A66-64E137A2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728-B9B2-49F2-BD1F-E9F9E391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F45-90C5-4B96-AF6E-CBE63F3E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7A6-7F0F-4D7E-B017-8BFF8EC2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72DC1-B6C0-4F56-A913-D6A828EEEE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