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61112"/>
        <c:axId val="61564591"/>
      </c:barChart>
      <c:catAx>
        <c:axId val="94561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64591"/>
        <c:crosses val="autoZero"/>
        <c:auto val="1"/>
        <c:lblAlgn val="ctr"/>
        <c:lblOffset val="100"/>
        <c:noMultiLvlLbl val="0"/>
      </c:catAx>
      <c:valAx>
        <c:axId val="61564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61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147-130D-4153-8192-80A3E96B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FFB-2722-43DF-8914-E2A9798E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6D9-8F8A-418D-AB98-E32A8AD2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1F2-39ED-4068-82CF-BD349B1E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2B8-AA1A-409B-8E3D-5570A359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604-ADD3-4A8A-9008-7D5B533A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839-E6C4-48F0-B9FC-3BBED474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101-D69E-40CC-B645-69DFA033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72C-E164-4F2F-91DE-007B3BC1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890-3E58-423C-9698-2D926DFB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138-EBEB-4C0D-87A1-54C856BB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051-25F1-4E07-AFF0-47CA6881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1B838-9D45-428B-9FF5-B88DAF8CEE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