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00588"/>
        <c:axId val="50647394"/>
      </c:barChart>
      <c:catAx>
        <c:axId val="95500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47394"/>
        <c:crosses val="autoZero"/>
        <c:auto val="1"/>
        <c:lblAlgn val="ctr"/>
        <c:lblOffset val="100"/>
        <c:noMultiLvlLbl val="0"/>
      </c:catAx>
      <c:valAx>
        <c:axId val="50647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0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360-1E53-42C4-8FCC-FAC366AC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7E5-77A5-4F59-BA10-C658998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BAA-4676-4049-AF0A-44BA3151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7C2-27B7-4C35-AA35-ECB18EFB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439-739D-43A3-A422-C72AEC17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263-F347-4713-8BF6-553C7371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920-45D7-43F2-BD0E-49826CAB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5B5-D325-4701-8F7F-C851619A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41B-5C5F-4C00-ADA2-D593DDF2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CFD-C0FD-44C9-8AAB-2BE71944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34A-7D67-43D2-81B2-1A08E5B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268-F24B-41D2-AEAC-C566C290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CEFC2-8CF2-4C3A-AFD4-F99A33D5C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