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549844"/>
        <c:axId val="97295857"/>
      </c:barChart>
      <c:catAx>
        <c:axId val="755498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95857"/>
        <c:crosses val="autoZero"/>
        <c:auto val="1"/>
        <c:lblAlgn val="ctr"/>
        <c:lblOffset val="100"/>
        <c:noMultiLvlLbl val="0"/>
      </c:catAx>
      <c:valAx>
        <c:axId val="972958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498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0F7B-1285-4100-9EA5-8E967973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4FF-F2FE-4854-B1A8-860F28F3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B6DB-9907-4124-AA0A-157785BC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6D8A-E21F-433E-B422-DEB63ADC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42C0-BDB2-4A1D-91DD-DFB302AC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2B8E-B5B7-446A-A239-26F9ECEE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4EDA-DA54-4FE5-B24F-081AABDA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D4B7-22AD-4C58-96C2-4311D880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EE4E-747C-4361-AB26-B05887EB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A256-4A7C-49BA-9B0F-24415DA8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E1E-B2A0-4C23-A376-EAC69B42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5E80-9158-46C5-9488-8F2083F7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746EE-5A84-4BEB-911A-C589613C57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