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187127"/>
        <c:axId val="78711728"/>
      </c:barChart>
      <c:catAx>
        <c:axId val="741871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711728"/>
        <c:crosses val="autoZero"/>
        <c:auto val="1"/>
        <c:lblAlgn val="ctr"/>
        <c:lblOffset val="100"/>
        <c:noMultiLvlLbl val="0"/>
      </c:catAx>
      <c:valAx>
        <c:axId val="787117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871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D839-FA26-40CB-9AA4-7EA867D8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F6A6-6B1B-4960-AA76-FE2324E5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E390-052A-4237-93B1-12FC61309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0886-182E-4AD4-8D71-8C6BAA164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6287-D636-4423-9C6B-91E3DBBE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841A-27F8-4C7C-B677-94F608D6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2674-C745-459B-A9CD-73F434F0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9AD9-5B1F-400E-A6DD-4D7E4F83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B44B-792F-4780-AAB6-5A8133D3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5D71-40B4-44D0-B818-FBB27337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37A3-AB40-42E7-904C-341F5B62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EFE1-016C-4632-883F-C32B2403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90A26-74C7-4A0F-A198-BF017214B5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