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D584ACF-7544-4A4C-AF4E-9AE68A6B91F9}"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BC9AAA3-7E3D-478C-A67E-8CEC1052896B}"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22F3826-CC29-44DE-8F0F-5D4C3EF49DB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AC4278-A13B-4205-B1C6-02F68DC6E90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7FF0D91-31E4-4F1E-B68B-53CD3A1B70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9F3BE9-F701-435E-9AA2-86E171E1817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A4E723C1-4126-47B2-908A-5B3554D88B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B79514C-FDE1-4456-A7BE-4D30EEA3D4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E2FE9FF4-928A-443C-9F24-34079AB8E4A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C6063E16-6043-4662-8B53-B7BC1068106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3FE9541-CD0E-4E68-B2C6-CC6FC55A460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5A1D761-6A0B-40E9-976E-6220B13121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61E60D6-F645-4546-8BDA-8657B1BF32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7A008F-2841-49DE-BDB8-A1C658F1868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2C26EF3-FA75-4CD7-83D7-A738FD6166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E8AC49C-5EC2-4A04-B714-EA0AA4B9D62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6606302-7E6D-4875-882E-33487537618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F095797-190D-456E-B0DC-7D7FED85298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813E51E-C896-4D50-93C5-3FBFB231D1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7C302E9-7B66-4957-88AE-C9576E7498B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B2AA265-A3A9-4558-9E6D-011DA7A32ED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6FB3DF4-7CD7-4AB6-AD89-5020FF83525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191F082-E10F-466D-98F2-C2FBED6B90F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5F4074C-DBFE-4596-A702-05386D8C2AD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DECD60A-4B84-417A-8499-66479AF6DC0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7B57203-510F-4BDF-A245-3F9CCA0AB60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4AA34-14D0-4F9C-B33E-C3C495E80227}"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3120D6-98F4-4F90-B861-F973AEA03105}"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D07DDB-1E7A-4B93-AE04-487BE0FFD192}"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CA62D0-DB33-42A5-B146-BAA01F9653C0}"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67E456C-C3C1-441F-A52F-F3D802581B84}"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F8C9072-66CF-4ECA-BD98-8F116E252E7D}"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C6BC69-808D-40D6-AA1B-E64F20425F4F}"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282F487-5C2A-4F73-85E5-E34FB1CD1D9C}"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C3FF839-72F9-4526-AD07-742DC64653AC}"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9D71C3-57A6-40ED-ACE3-CF4E06E80F0E}"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4071463-3080-46C5-9649-59AEE6D022B1}"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7C101DD-7C27-4314-9D3E-CDD26BCFE3C3}"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584183F-FE1B-4830-AECA-D4F38639F499}"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D50E49-53DA-4306-A5CC-440D4424791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998533F-256F-4A13-AF72-F517E92E4FBD}"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2A2250E-72D0-4803-A85F-9719DE3D4010}"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5F343C-4DCE-416E-9D96-283660175CA3}"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BAC226-A261-46FE-9203-372ED47A747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858C73-EF00-473B-832A-1DA812519F54}"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07D94ED-3122-4AD3-A3EB-37980577409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0189AB04-A0A4-4036-8227-E9D960B7168B}"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CC91B2-D696-45A3-9A57-AE87DE576955}"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6B27435-A343-4545-95C0-3EF53B885BB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BF913F-E124-4FA5-A819-1F051DA6FDB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E67D5FD-CBE9-4017-B2E2-BE6C5AFF48A0}"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CC7CAA9-F767-414D-9DA7-D04704DA6F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43C791-13C3-448E-80AA-983A915506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66838A7-EC34-47AB-8F2A-BC5A5FFF8DE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8CAE38C-0CE3-48CF-9186-CBEC21572621}"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43FA7F-B800-404D-BE85-A11C5DEC4D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6963EFD-B68C-40E4-81D4-95D917D86E1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638DEFA-2654-4DAF-B8FF-F01ED4BD0E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61C20A3-39DD-4F9E-9FD1-810A5679D8CD}"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E02C813-80D8-4484-A64C-A514613DD4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665B610-7F4D-40A7-A507-5A167952781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5BF0263-A389-499C-87D6-3ABB59F41446}"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682EAA3-67F7-4E11-B34B-E35DABACEB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8F0A1A1-9969-48CE-B803-BD312E4CEE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B983769-5174-4C35-BBEC-C6560754376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D6ADA2B-E01A-45E4-919E-3B2F88DA69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B6B2041-010D-41CE-8BBA-68EDA1CB905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4468E9-9124-4F5A-B798-16FB31BE7F13}"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D67904B-6A14-4947-8413-E4927F7261E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8B7AA0-F8A5-4B7C-A739-01CE16B6045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0348F-5C68-4C33-9051-4453052E15D3}"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7824E8-8054-4F69-9177-963F1117514D}"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589F9AF-713E-4F72-9379-459C9CE82BC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4AB946-0FFA-496D-9A1D-85A3533C364C}"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20CAC6-0E4F-45D7-9BF7-B667AD0C2E6D}"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C030A0D-1C25-4728-8D89-1FEE580FC51E}"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661910D-CDC2-44D2-B395-793E78193EA2}"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8B9369-DA5A-4190-97A1-588ADA6E6D3C}"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25780DF-DC11-4643-A660-5F6059C02C48}"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66A4E31-436D-45A2-A8C5-DA493F776A12}"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DC77FED-2E36-48BF-A51A-3EA6E729DAEA}"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BE3C2E-957B-4D87-899C-CFD2013E9781}"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9104CD-A94D-4271-ACA5-475905648307}"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03E9198-5337-4A8A-9F45-6DC906470FC8}"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342560F-C9DA-41B0-AD87-A618429AD6A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04254E3-6ABF-4AA1-ABCD-5DD6BEE6D609}"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CE8E84B-3769-4A49-9EDF-D51765C3348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AFF3A88-3CE9-433E-9C9E-25A07D4A1362}"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83E2EC2-96C3-4E9B-AB65-9D214586D080}"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BC1FA6-C2F2-41A3-9E77-3D54BEBDA0A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8C073B-4878-47D3-B93C-0D0EDAB19723}"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E44ADF8-5577-4C09-A30A-557DBF5E1B0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13F7E22-7052-443F-BF13-C6E7C5C398FD}"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B876B0E-9408-410B-9974-1954671FF550}"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D635244-E1D6-4928-97E1-A3293BCB056F}"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12B7A41-FCF3-437A-A5F5-9615BBB32F89}"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4603531-02AA-4295-8D8B-D3F5D2F5A6E1}"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AD504F4-1D16-4BBC-9C9C-2892612188F5}"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A51B701-62B5-4746-94CE-B2F78DB66B35}"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164CB3-1003-48E1-AED8-8E7BB82B6DE5}"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2BD2DB8-0A5C-448C-B2B7-8E6E3FCF2BB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39540FB-A884-4E67-940A-4748801AE08E}"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A762135-3A40-4168-88EC-7906E5A1E49E}"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7E9126E-A7E4-4A1B-B2A4-35DD374B4691}"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17775EC8-8F76-4E1A-9F12-50699BE1F055}"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8ECA717-7614-4CF1-993B-182F965887AB}"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579446-9F4F-4823-9C65-20DEBFE97647}"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11E5FA9-D21E-43C6-85E2-8C0447CAC1B1}"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A72FB0E-BB27-4851-982E-C25CE1F38B26}"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EDE830-D517-400A-91A8-139BA39FC173}"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C599028-8EEB-432A-96FA-338170F7676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C1D28FF-3FB0-4F48-8022-8282B97D09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D993511-4006-4174-8DE1-44E312DAC7CD}"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7060E2-B807-4CC6-ADD4-51D293F68E46}"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0A0E0C-2DF1-4B47-8E7D-E9A4E79F050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E62BC33-A12D-4AF0-873A-A91E190CF6B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E540EA5-1A34-4685-8AF8-CDAC8CD4B8D2}"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C166FF-0870-4927-974C-E887286752A6}"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906234-A55D-403E-99DD-3AA862D0142D}"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06DA69-A31D-4C1A-9C1E-5F68C9854858}"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B8EFAF2-9C68-4D37-BC57-6E8A86FE0519}"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C9CCFC8-4A9C-4368-9BB0-1B3F480F2C87}"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6FA793C7-B46E-4CC0-A012-8D59FD7DE24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2D03858-0D22-4D6E-AAF2-A3DB01D06685}"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6AFA7DA-01D4-447B-93DA-586D33190E2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69DF19-5A34-4676-9684-DD4D9EACF77D}"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FAC52B7-DC59-464B-AE79-F1029CECDFC1}"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9EC5A5B-CF9B-4317-8AFF-723D1F4C4525}"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1BC8BE-2245-4630-A8EE-94A425CF5699}"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9531A91-C902-4B0F-84CF-24F342B6D2B8}"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0898B07-C631-476D-9FBA-4BDA2ECA5D96}"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4D9BBB-8420-48C8-81A1-998A9BABDFB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BDFE00C-DB99-4FC0-BF2F-DD62049F9F9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B6B894-A509-4594-9198-CA815EBC64F8}"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37B73443-EBEB-4447-9F75-0CD21716AF39}"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3A0623A-FD09-4181-B583-4EC6470E0F37}"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856965-696C-48AF-B951-725546FCC042}"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82ED722-C9D6-4D08-8B9F-7B4E5C35C627}"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19B1DFE-BDE3-475F-898F-71BDC661B854}"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1C1AD72-49BA-4871-B8F3-70B3556F4E44}"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