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C8EC1A1-2B01-4FB2-B900-EFA65F8B9ACA}"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138A703-3AA5-47D4-A96C-4D253B34A9F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F0F9BE7-CAF3-477A-9EB4-567FBEB73C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B8F833-7FA1-457C-8009-223F935200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726A522-75E4-4DB1-808F-8B4412509D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7F816F9-950A-4A4B-B8A4-DB667C7234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BF209BB-031F-457E-8C2D-F4C31052464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1B7FF18-B850-4F3F-A156-E6809BF9508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F600DDB-E430-40E6-8056-45289F337AC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F7945D1-08A3-4BC2-85F8-8E19D2F1553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43D0E5D-3141-44B5-AE9F-9F22133A768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C839EE0-94FA-4AAB-856A-5E6A2C33210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83C9DEC-CB29-4A34-96CE-C0ED1C18AFA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02C5A2-9CD1-43B6-AA9D-A534705C38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9564FDF-A1B7-4021-8301-A8CBAA63B16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54D8CF2-D4B1-4C77-A346-7C01C8BC27A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3E68C5F-BDF0-490A-86D8-8638EDBE742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73974D7-4B69-43C3-9EDB-9CA4D98DBAF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3E3FDA0-E66E-401A-B839-E8CAD1BE8F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E2108CF-3728-43A6-A230-9B8B9F62A2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5F79106-F989-4648-8C18-952A9A1A92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EDEB2F3-112D-4309-9B9B-BBF9762AB4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7F5D2A-4E02-4FD4-94E9-0F2F50E9E0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9FB73F-6AD1-44B0-AF83-CFA413A918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3AED20-39C2-4B45-A463-17F9F950C0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E3B38F-5D59-477C-872B-54F47A7BA7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F93FA-60D0-49BF-9DFA-D1F1E48EEAB0}"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53224-4043-414E-8355-CBFA38F63952}"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00C2D52-9C4D-415B-B004-6A610CB82510}"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5EE48A5-74B9-4F7D-8E18-49089CA349ED}"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A77C651-0402-44DC-B9C6-335372224424}"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037CC52-1AB8-45A7-9B70-D6DE0524B77F}"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64BCAA8-10DF-4EB6-A517-70E421F12B4A}"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F0D8836-1173-4D7B-882A-9526BFC995FC}"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E5A3FFA-36C3-46E0-BCF0-11D9FB7964EE}"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EEACD65-C74A-4AF3-A6EE-633612C23CA5}"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D4C9BDF-B7C1-4EDE-90EC-12E9A5F09B80}"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6190F79-C7F2-40EB-919D-E99845D5B73E}"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77B850B-673D-435E-B645-427A6F96C699}"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BC57676-CE2A-4769-9FF2-EF8183506DFC}"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F7D696F-79E1-41ED-BAC6-A44B61747EF9}"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5D27A8A-C10F-4744-8A94-AEFD9C912155}"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7231122-DAED-4520-9787-B76F7F93BDA3}"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E70A1FF-5BD5-44DC-B136-5FE42DBB27F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36F5A4E-9E92-4FAE-AEAA-CA48CBA590D9}"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7C7038B-1874-4965-8270-DCE2657E1F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6611AC43-95B7-483D-9CE4-18278E817370}"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BF36C23-312F-420D-BD45-1D9AD21BCCB9}"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BD362CE-1AB4-4103-A05A-A0BFC8F1B2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49ADE43-221F-4044-A9FC-251B809F57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22CD415-1123-4965-AC3D-194CE2A03188}"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75482A3-D29A-4A46-9C1B-AFB3B7F224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A9195B4-9794-4540-AA70-7B04F811B0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4A1E162-1150-4583-B407-9FBE88B97A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6706998-9161-4EDF-B36B-1E1E91E936B7}"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26105E7-997E-4811-A45F-D28B74B4FD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8D9BD37-54EC-4845-A5BA-63A7526DFA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4D30F63-A145-4C24-9B49-FB53F7610C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82CF836-5CAE-40B2-BC71-03F951B6C850}"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04A010A-69C7-42DB-B217-B8EFEEE8A75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9944880-7690-4AB9-98B3-B647BE248AF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33D7044-BA68-43C8-A0D3-0E27D68DAD89}"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045C6F9-2D26-4641-B8FF-DD363836E3B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CBB2999-B74C-41A0-B22E-3F39D38BFF4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925DA92-0E4A-4048-9AC0-D7AE985EF15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E7B9DAF-5471-460C-B86E-E89181106AB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B4C9F92-D4F9-459A-BCA7-C9AECEFDAAC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90A9424-AA71-49C2-823E-35A7C5CB97C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421F5F7-9FAF-4D2A-BC7E-28FA0BD50D7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7802419-D929-49FB-95D5-A664EB52200B}"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DDF2A40-7F61-4AF5-A97E-C407348A84D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65EB607-4F4E-4037-8B71-8C22AFEF6FE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7953B79-7768-4736-9C89-F80CB6DA59F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04EA895-8FE4-43F8-8FF5-E2E9F50258D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1EA54AA-CA7B-4F46-B9AD-A587D1E9361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01DE1D6-BAE3-44EC-8010-0358531F125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B0A7B9F-16EC-4F94-A882-8747986D1D3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80BF341-EF2E-4D84-9A0B-872901234FA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6921E9F-A1FA-4FBE-A2D6-9BC5D972AB0E}"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62EA4E0-ECCD-4114-B0D5-4D51750127D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54D7AA8-0F81-4C00-B17F-1B5849CD1BEA}"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C68CE4A-5B1A-43D1-AFAA-85A992065012}"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8EBFE98-EC42-47ED-A371-A53F1C5D57B6}"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34D7A76-5DA5-4456-A0CC-9C983C2527B2}"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1F551E2-3D69-45A9-B496-937C9767E006}"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37652C6-B61B-4D4F-A03E-EF20FF81F2E4}"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5987361-8FFA-4972-A2C8-8C5A42CAE77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D7444CF-F776-4EE8-AB26-89C541023134}"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A450433-C9F5-4817-838E-151C3BC1F025}"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5244820-53B9-4197-A516-8F205B9FC21F}"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2C7264A-09E6-4D67-85F5-EBA6F5A83C96}"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94EB601-274E-4DB9-B4BF-15584CE8ADA5}"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9569888-3384-4E4B-820D-744D2FEE3E39}"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FC0BADB-1F80-45BD-8A28-AAEAC51C4421}"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B939556-9E56-4A44-A2A4-0CF117EFF110}"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50AD33D-4114-4368-9E96-73A81E48E897}"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191520E-17DC-4534-9EEC-6E1D5BA8BDBE}"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E64DC18-72AB-47AE-AF72-A58ECDD02480}"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7C1B9BC-818C-4E7E-BC7E-B980965A9BB5}"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7EA8DCC-49E1-4364-892F-51BB82362968}"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FC375DD-DF6B-420B-A3DE-C9A719F30EBB}"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E603FC9-E4B7-4659-B713-C7DAE411F2AE}"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29D6E92-FBF6-4E4A-87BB-2931CC9CEBF7}"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3460347-EF58-4EE3-ADDA-C9D7614000FF}"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353B98E-B925-473B-8D62-EBB9C10641B9}"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BF4F9F5-2481-4576-9D50-008491681E5D}"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8198BB5-3A79-4344-A080-E7AAC9C7451B}"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18EB8F0-209A-4270-8E9C-ADACCD93463E}"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B094985-FED4-46ED-93E7-59A20F561D69}"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CD71423-0EAE-4282-914A-D71C1BB870CA}"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9FD284C-036F-48FD-9298-07605DF4543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86A4B1D-0561-49A2-BBA0-ED91EF6CD2E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4A1473F-4609-42E4-B3B5-A994E744454D}"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9149C1D-262A-471F-BB49-C033E43567A9}"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D125465-C2FD-455B-A54E-CA31C1C37E4A}"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2522EB8-196E-43F9-8213-C81CB7C671B6}"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964DA89-4162-4490-AB03-89BD1C1502C2}"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2BBC387-AE74-4415-B3E8-5839FDBBF78F}"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F132EC7-4195-43D4-B2C5-21E9AAFE06F6}"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076A998-F125-461C-8E73-0976E7DFD63A}"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9A6C49D-BE2A-4E73-A765-DB22112D4911}"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82B8C11-25AE-4990-9351-70EBB03527C3}"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C59486C4-D019-4AF2-8B65-24DAAFE489EA}"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C3E47CF-5440-4FED-A46B-05C88DCF18FE}"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2202D5D-7B7E-44B9-B89F-C91FA9F7EEEF}"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9D161B3-80E5-4DEE-83DE-83AA2779B657}"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66658DD-85DA-4FF4-98CB-BA2EC7B24969}"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12301C8-222C-42A7-B89E-275513F7A6C5}"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7897C94-39C0-4CE1-A375-92ED60771D21}"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8B17ADC-6801-4502-9441-23456C63FB87}"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F9CB21B-8D18-4DE5-A02C-2823B21E96CE}"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3F01B54-7C42-4839-A7B8-1233452F36E7}"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D8CBFA0-0773-4550-BFF3-012DC7BA7D61}"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1BA5006-887A-4F72-AC10-EABC1027E3D2}"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2E433B91-B2F8-4BE8-B9F9-941ACF75A778}"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A026217-3904-42EA-9511-A8F84979EEEF}"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744B799-F64B-47F5-8467-918D9894C43C}"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F3A416A-A8CF-41BA-B3E5-342F480CAC2A}"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292AB4D-F8E3-451F-BD9F-7F89DCB893A9}"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EA0C374-E1CE-4EC7-BF37-01E68020A52B}"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