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EC24AF7-CB15-428D-90A6-207EDF4ED47B}"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686E7F4-D8B5-41AB-A638-946E31FA45D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555A1ED-BF98-464E-BFF4-13A4E1073C0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2A66E1E-00A4-4AAF-994D-A6B51AB8005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53EFD0F-404A-4754-B353-BF0908AD806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7481B52-8D0C-4914-8043-A7306ED1B14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3D4DCEB-51F8-4C66-8C0C-2203F018796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5C3FD74-91D7-4982-B31B-3722B1F5FFE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2EDDE7E-607D-4154-8EE0-1AAC61585C9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F72DCE1-9EEC-4293-8E6F-B0BC02593E7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CFB1CAB-4FC8-4417-8213-54961A56F85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B67258D-4A8A-47D9-B04D-B690BD9D452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D70EDD7-195E-46A7-9F22-19483CCC93D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F38B57B-22BA-40BE-815D-4E31EBB36E6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BBCE7DE-90ED-4976-8012-09E35406E28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0C5BD39-AF5F-4978-88A5-C703D4F8049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F2B36B9-2C91-4B00-88D1-60D94ACBD3A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7D76415-38FE-4FAA-B36D-1B8CC59C809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83C5AEC-DFA1-4C17-9928-2668F0257C4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3D369AC-48C5-428F-9812-60C31742EDB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441F55D-FB3E-470A-9569-301E38D278C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1473D3E-4618-4422-9DB6-819769288EB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7FA9B0D-BF0B-437E-9E99-CE2FBFB287E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BFDFE16-3A29-4A87-B24F-BDE6D11CFCA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102B0BC-8620-4C32-A001-4819BBD51D9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D386A70-9FE8-46EF-948C-139120A1151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5045B21-E239-4127-B605-ED4D424DB10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428C0C4-B03F-4AF7-BCE1-6D013CBC98E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F22B6A5-0643-4F9A-8961-968A6B83669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DF7CB5E-727B-4239-86E7-3B5D5ED1A2E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4275DBF-284B-4DC6-8C12-1136DF5B64B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A3A1A51-0BA7-49C2-861C-C873C7D3A54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0C4FA29-364C-4253-BB05-80EB8C3CF4B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2B7948-7902-4F13-8DE5-9F0E4ADF74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4CBAEF2-8DC9-49EF-A9CE-BAB9B9EF2D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F4B0F-231A-48DF-B467-83610E301C3D}"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F62DE-A5E9-41AF-A81F-CDC6320C17B8}"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25690898-026B-49E1-A60C-C18E9CBD5E7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D908422-BD77-4C09-8EC7-1C2B9E95AD2C}"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0CD43B3-ECDA-4F95-9EE0-1CBF5D8DEF71}"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5C01785-E711-4C96-8785-7DE1433AA107}"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21613DC-8A20-4E30-B954-9001FD9C5F35}"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89E954C-0483-4C80-A358-74B0FE429B0D}"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513E015-9123-4574-B1EB-B8A59EFE42F2}"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818217E-3F9A-4CDE-98E8-D56A6B5379CD}"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B28F5B0-4B70-4CEA-9D07-9DA80857A1B6}"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6C4803C-C35C-4B82-9DB3-5158A3FF901E}"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523E067-5727-40AF-A976-BAAEDCFADE3F}"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3E48C71-5036-44E2-AC59-04ADC7FA71C8}"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54E6C34-2DF1-40C1-AB6B-4B53B12D9242}"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A44B977-F16F-4E24-8F83-6FDAEDA2FAA3}"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42F96F9-A894-4356-9022-2B4EE163EE03}"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3D03898-9C42-46EB-95FC-C82D6A4F07DC}"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DFDA496-A48C-45B0-88DA-38613651803A}"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FCD5EE9-9E19-4E1B-8B27-8679E3D6274C}"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66F8BFA1-A75C-4A7E-8130-9637F54545CE}"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7EF736E9-59FC-4AB8-BFB8-1872703B0088}"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BD122FD-61D8-48A6-A808-CDBD1501963E}"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1D5F478-A402-46F9-9731-457DEBC0F994}"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E36EFBA-B123-4996-9C70-EC3164CB6B3B}"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7ABCF8A-0897-4A20-9C8A-AD202580E0AB}"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F0A3404-C2BB-4B0C-852A-1E8DC0E7D0F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A78D774-BC77-4848-9ACB-784636DBD485}"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BE0FCA8-FC85-4903-926B-7E0AD62528F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C9C9D83-ABB8-4BA7-8B81-23AEF030570A}"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BC00AE36-5BB6-417F-A959-BAB4FDB1FB1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7F11B56-8239-4CC4-9415-B2D8A70E6AA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5DF3010-0374-4D2C-A978-5CFD9B6CDA8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0B20F5F-4C1B-4A40-B902-6A700D10348C}"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A204983-5B1C-46BD-9323-35D6F947E84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A03DDF3-90DD-4A5A-9749-8C2C5F10C4C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43F07AB-ED6F-4A79-9FD8-0CA5F4B5344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02608E7-B4CE-4E0E-8938-0A1A816480E5}"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6A69732-4920-4B74-ACAA-EA1B7ED6962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055B5DD-5BE1-4697-AF83-C28534DE40D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9EE669B-8F6C-405A-8115-65C7CE82C7E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82C9C22-0F1D-40AB-8E87-4CE53B49CC89}"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014F665-431F-4E05-B7BC-0A3D1D4B770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168A1FA-6C36-4D01-93AA-F64AA8E7D12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F1E7B6A-A7E9-4E82-9832-DCF531B24E82}"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56079D3-D3AC-4016-8E43-CF58D4A79AB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EF5B7EF-3E60-4F34-86A3-9E441D53D00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243A3C4-3735-4B70-8C40-1EE12CB67EA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CDFB378-D5E7-4BEF-9B49-B783E2C7774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4AF2B00-5E83-4C47-9F1C-45BACCB71036}"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EC43B71-D171-404B-9490-2AA926BD7C0C}"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CF262EC-465B-4078-A9F0-9C46ACDF1360}"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371CD89-4629-43DC-A1EE-1878E413E7D3}"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F1A57BA-1957-4178-8030-5E4633C75B49}"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72633FC-C3BC-40C0-BCCC-959C2EC74843}"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651E85E-8E22-4DB2-B51A-02C742B5B1A9}"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FF84A97-288F-41DE-9454-2F82AFD777AA}"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93043CD-129D-48BA-9CCE-C93FB6399A98}"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9013629-4520-43D2-B382-DA923635FF5A}"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A5A3879-727F-4C0E-A2EE-FE9D5BE6CB86}"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B5386B7-75A1-4EFF-BFC7-2D4A10A7274F}"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2A3A39E-3C49-42C6-A022-D39A25E8623A}"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D8C7AC6-D6E1-49B3-AC9D-2B722CEC820A}"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F3317D1-4B1E-4041-92AF-D209EF69FEDF}"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91327A5-A710-46BF-B5A4-00B097AAE80D}"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3601832-FB5C-4F09-AC2F-57A0A4A5998A}"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50D1783-F045-47C6-A184-382E8C06441A}"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0F70A9B-5A34-438E-8313-C811D62AFF5A}"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B63E020-89EA-4A05-B0FF-31D7A6D1FBBD}"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A1B666C-FADD-42BC-BB05-DDA3612995D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67D63B7-619D-41E4-B9CC-B0C41060B56B}"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C14821D-FC88-4404-A3E1-66707B75152B}"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8E393C3-C5F9-4124-BCB9-3BF1C1F363C9}"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1C2F144-83BC-4BCC-ACC4-D69EE7C67072}"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FFDC3A3-49B2-473F-AFD7-7F356AF42311}"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D3215E9-65F3-46F4-97B1-11E322E89CF8}"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99D5C76-D946-4AB5-BABF-97616A417E39}"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EAC900E-76FF-41DD-96F0-5A623AC04025}"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BC4E9E8-5F03-4F60-91E1-F788F75FE8D8}"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523B887-E5B6-4A5B-B3D0-3F0D10A4382F}"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0A77A2D-24EE-448A-8A28-6B0FBF9E4FAC}"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6C7BD8E-C575-48F2-83A3-5104B80C1624}"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448CA60-D1A6-46D7-B91C-25FE05F45BEC}"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C66BDA3-204F-4D91-9447-DDE4F9BF86E1}"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F0C1A54-074D-42A4-991F-4B9C581CA143}"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A899959-8687-42E3-8A2C-0AF51CA0DA28}"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9A05DFC-757E-4E92-9F61-AE87FB39CBCE}"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4F153ED-9613-4CB8-A2CC-F9EDAF3F6779}"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7C1A621-E276-45D9-BC19-B51A282B78A6}"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FE9270C-9881-41BD-B6A6-32CE6314AB89}"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AE2C1F4-C1D6-4210-966E-6692BA90F043}"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DA1D007-5BDA-4107-805D-84DB43065BF2}"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0945B1C-1902-4DE1-B5D5-38C146D77FA2}"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C38F621-397C-4E96-B7D0-22C330B19442}"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F9EA701-10B2-4189-AEED-C49E26CCA2D3}"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F3B38E0-120C-47B2-9AD2-035526D22480}"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CDBD598-654E-49FE-B750-4C57C3FDADD9}"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1A2D94D-752D-4814-85CE-AAED312D8DD1}"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5B1C78E-401E-4C5E-BABA-A0BB46BAFB7A}"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15747F96-B965-4230-90CF-D8297D229665}"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5F8AD70-2CE1-4E91-9E27-BFD09BE94820}"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79EE6AF-657F-4891-ACF5-ED3A986B8D13}"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7B3B78A-FC47-468A-924A-F3541A8C2188}"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9929678-072E-4C6F-AA1C-C2A36563FDB3}"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14F6908-A183-46CA-8A2C-FB34E56FD447}"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B4D9569-9557-4195-929C-9CD59094B687}"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1983797-0947-4DF7-9927-F67FBF09FC5E}"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08AA1AF-B96C-4E7B-9797-848173057291}"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E4E8C93-1F73-4974-884F-018D212259CE}"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E6DBA76-5ED0-4A62-AFE7-DBB252C47CCC}"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CAD906A-553E-422A-90CE-8C98D8F09462}"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3ACECF8D-014B-4241-A8EE-FBC3A1C9CCBA}"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CC57843-D4C4-4C8E-AA8D-5D63225EDBD7}"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C2BCF25-379A-46D8-BC95-74D25D5B960B}"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1FF1522-3F13-47AA-806B-CEB2812BEE0D}"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8A04A44-7972-43D6-9CCD-69CFA7532A20}"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CAA48D1-C3B0-426D-A77B-20FBE61BBFBE}"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1473179-B478-435C-862D-7967C43AAE1F}"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B1E4B61-2429-4C0A-90D1-AB2E802A4D17}"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8BC03A3-2C7F-404D-86F9-841FD4D53A2F}"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69CE5EB-2678-4E0A-B25B-EF4BCFE5F1FE}"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D6BDE68-103A-44B4-935E-5829B95D004F}"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F88CACF-5FA7-4A4C-8E09-EA49DACCBE51}"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